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A76-B6AC-408B-95DA-8267CBCF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7AF-D090-47DB-929F-DC16543C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0E7-4570-4FF8-BF71-E97671EC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256-ACF7-40AD-9F13-6620FCE4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039-9173-4179-A5C9-9359BE9E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C9A-AB7F-4B04-A35C-2D59D34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E30-F427-4660-A896-C415F228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88D-8771-4EEE-8EEA-DD138EEA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F72-DBE7-4449-B70F-FDF3017E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96F-9C2E-4C2D-BFDD-04DEDF6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981-3CFB-41CC-BC3A-FFE5921A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AC5-9C54-46B8-A5D5-E9264D90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F2A6-156E-4BB0-985A-7DB6B84C3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AQE41DvHofs" TargetMode="External"/><Relationship Id="rId3" Type="http://schemas.openxmlformats.org/officeDocument/2006/relationships/hyperlink" Target="http://www.youtube.com/watch?v=YVvBEFOj_T8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ka 3D z użyci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0000" y="5949720"/>
            <a:ext cx="27687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: Adam Więc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szerzenie dla środowiska uruchomieniowego Java Runtim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feruje obsługę grafiki 2D 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arcza bibliotekę opartą na Open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arcza API umożliwiający dostęp do funkcji i obiektów graficznych na wysokim poziomie abstrak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wala na wyświetlanie obiektów w czasie rzeczywistym oraz interakcję z n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orzystanie OpenGL umożliwia uzyskanie wysokiej jakości renderowanych s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sługiwane są funkcje takie jak antyaliasing, filtrowanie anizotropowe, cieniowanie, dynamiczne oświetl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wala to na tworzenie przeróżnych aplikacji, zarówno wizualizacji różnego rodzaju symulacji czy też gier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k samo jak Java biblioteki i interfejs są niezależne od systemu operacyjnego – Java 3D dostępna jest pod Windowsa, Linuksa, MacOSa i Solar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e jest tworzenie appletów, które mogą być uruchamiane w przeglądarce internetowej poprzez dołączenie biblioteki do apli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81440" y="2923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18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zykłady uży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AQE41DvH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YVvBEFOj_T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7:22:34Z</dcterms:created>
  <dc:creator>Adam</dc:creator>
  <dc:description/>
  <dc:language>en-US</dc:language>
  <cp:lastModifiedBy>Adam Więckowski</cp:lastModifiedBy>
  <dcterms:modified xsi:type="dcterms:W3CDTF">2013-06-02T21:56:35Z</dcterms:modified>
  <cp:revision>56</cp:revision>
  <dc:subject/>
  <dc:title>Karty chipowe</dc:title>
</cp:coreProperties>
</file>