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056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763800" y="-360"/>
            <a:ext cx="285912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61680" y="758880"/>
            <a:ext cx="5375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39120"/>
            <a:ext cx="286056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763800" y="9339120"/>
            <a:ext cx="285912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207F54E-05F2-41D2-B826-2C689DA78EB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hciałbym zaprezentować Państw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ważniejsze tezy mojej pracy doktorski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mat pracy brzm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y neuronowe i statystycz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ca została wykonana w Katedrze Metod Komputerowych U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 kierunkiem profesora Włodzisława Duc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a się sieć Kohonena jest siecią dwuwarstwow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ej warstwa wyjściow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siatką neuronów oddziałujących lateral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yrażeniu ... mi jest wektorem wag neuronu "i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hci jest tzw. funkcją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której relacje bliskości danych są zachowane na map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najważniejszych zalet tego modelu należy to, ż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konuje jednocześnie redukcji wymiarowoś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klasteryzacji danych wielowymiarow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je możliwość zastosowania do dużych baz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ub danych w czasie ich napły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graniczenia modelu SOM,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iekształcenie związane z niedopasowaniem kształtu ma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ogólnego kształtu danych, efekt „brzegowy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yskretyzacja przestrzeni wyjściowej (siatka neuron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fekt lokalnego powiększ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teryzacja i klasyfikacja nie optymal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ieczność wyboru wielu parametrów uczenia sie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dźmy teraz do skalowania wielowymiar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ideą tej metody jest zminimalizowanie funkcji błę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zw. stresu, gdzie deltaij jest miarą odmienności obiektów i oraz  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j jest odległością w przestrzeni niskowymiar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literaturze przedstawiono różne metody optym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e w tym cel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 MDS w niniejszej pracy ulepszono w sposób następują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stalono pewną strategię wyboru konfiguracji początkowe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stresu został ulepszo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optymalizacji skoku wzdłuż gradient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worzono możliwość dorzutowania n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ymalny skok dla metody największego spadk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iera się na aproksymacji funkcji S formą kwadratow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rzymujemy następujące wyrażenie, w którym można dokona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lu analitycznych uproszc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o metodę największego spadku z optymalnym skokiem (OS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metodą sprzężonych gradientów (CO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z tzw. rzutowaniem Sammon’a (SA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ierwszym wykresie widzimy szybs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bardziej regularne zbieganie się minimalizacji metodą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ugi wykres przedstawia końcowe wartości stresu dla stu różnych pró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 niższe wartości średnią oraz minimalną dla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sumując: zalety ulepszonej metod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nie krzywizny funkcji S() w punkcie Y(k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y jednocześnie mniejszej kosztow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ż prawdziwa metoda drugiego rzędu (n.p. metoda Newton’a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w sumie szybsza niż metoda gradientów sprzężon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przebiega w sposób bardziej kontrolowany ni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ą rzutowania Sammon’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wadą jest jej liniowa zbieżnoś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łączona przez mnie generalizacja polega na minimalizacji nowego stres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m występują odległości miedzy nowym punk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lub nowymi punkta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punktami wcześniej rzutowanymi tak zwanej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tać stresu jest przedstawiona poniższym wz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odstawie przeprowadzonych badań można wnioskować, ż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ultiStart z minimalizacją gradientową jest zadowalającym rozwiąza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małych zbiorów (do 100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iada względną szybkość rzutow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kontroli obszarów danych, które należy lepiej odwzorowy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wizualizacji dużych zbiorów danych w celu ich eksplor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bazy tekstów) lub danych napływających w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monitoring procesów przemysłowy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dy zaproponowanego modelu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ość obliczeniowa rzędu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- liczba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ne lokalne minima (czułość na warunki początkow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implementowany interakcyjny program iMDS został zasto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wizualizacji danych psychomet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yły to dane trzynasto-wymiarowe opisujące przypadki chorób psychicz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, że MDS pozwala na lepsze odseparowanie różnych k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a przykład klasy ‘norma’ - granatow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sychopatia’ - niebieska, turkus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ganika’ - purpuro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lejnym zastosowaniem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zoomowanie w sąsiedztw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ranego pacjenta bazy psychometry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o i rzutow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 najbliższych sąsiadów w przestrzeni c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k równego 500, 200, 50, 20, 10 i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ńcowe wartości stresu są wskaźnikiem jakości odwzo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520" y="4708080"/>
            <a:ext cx="51181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adnicze cele mojej pracy zawierają się w następujących punkt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dstawienie przeglądu istniejących metod wizualizacyj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ie dwóch wybranych metod: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samoorganizujących się map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unktu widzenia zachowania topografii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akcyjna eksploracja danych medycznych oraz wizualizac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ranic decyzji klasyfikatorów jako narzędzie wspomagające diagno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0720" y="4708080"/>
            <a:ext cx="58723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statnim zastosowaniem j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granic decyzji sieci neuronowej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enerowano przypadkowe punkty według rozkładu Gausowski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sąsiedztwie interesującego nas punktu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lasyfikowano i dorzutowano do obrazu najbliższych sąsiadów z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skorelować pozycję oraz ostrość granicy decyz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rawdopodobieństwami podanymi przez klasyfikator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rzutowane punkty są w obszarze większego zagęszc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m gdzie klasyfikator podał duże prawdopodobieństw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dobrze odsepar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iedy prawdopodobieństwa są mniejs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przemiesz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1560" y="4708080"/>
            <a:ext cx="55706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moich badań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ktyczne porównanie algorytmów SOM i MDS pozwala wniosko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ż MDS jest lepszym narzędziem do odwzorowywania struktur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ęc lepiej się nadaje do ich interakcyjnej eksplor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alowanie wielowymiarowe zostało ulepszone i do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interakcyjnej eksploracji wielowymiar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myślnie zastosowano metodę MDS do wizualizacji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ych medycznych oraz do wizualizacji granic decyzji klasyfikatora.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perspektywie można zapropon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adania nad minimalizacją stresu metodą gradientową z MultiStart’e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o jest uzasadnione w przypadku małych zbiorów da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większych zbiorów, należy poszukiwać tańszych metod global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gram iMDS przedstawiający 2-wymiarową konfigur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przygotowaniem do wizualizacji w 3 wymiar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również myśleć o interaktywnej wizu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jącej informację klasow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o wizualizacji lokalnych poziomów zniekształceń relacji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p. za pomocą Minimalnego Drzewa Rozpinające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łówne tezy mojej rozpraw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cja polepszonego algorytmu M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wala na włączenie go w narzędzie interakcyjnej eksploracji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z wizualizacji granic decyzji wybranego klasyfikat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ody ekstrakcji cech mogą z sukcesem być za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jest lepiej przy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odwzorowywania topografii danych niż mapy samoorganizujące si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lizacja przedstawionych celów pra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biegała według następującego plan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nkt pierwszy: Cele wizualizacji danych wielowymiar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gląd metod pozwalających na wizualizacj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e się mapy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ia zoptymalizowanej metody M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i perspekty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1200" y="4708080"/>
            <a:ext cx="51944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wstępie rozprawy omówiłem cele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wizualizacji, możliwe jest poznanie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określenie ich globalnej struktu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rywanie obecności klasterów i danych odstając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dotyczy danych nume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wystarczy możliwość określenia podobieńst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a wizualizacja polega na przedstawieniu wykresów punkt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ch istotne są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części pracy przedstawi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wizualizacji danych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zielone na liniowe oraz nieliniow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lem tego przeglądu było umożliwienie wyboru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bardziej odpowiedniej do wizualizacj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zentowanych w pracy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aliza Czynników Głównych jest metodą statystyczn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tóra istnieje również w postaci sieci neuronowej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artej na regule Heb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niki zastosowania każdej z metod różnią się rodzaj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ej inform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pozwala zach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uczytelnić odległości lub dane odmiennośc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wie kolejne metody zaprezentowane w tabe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ą wersjami MDS w postaci sieci neuron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y samoorganizujące się są skonstruowane w taki sposó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 zachować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e względu na zachowywane informacje do dalszych bada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typowano właśnie metody MDS i S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dano również metodę liniową Analizę Składników głó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ieważ została ona wybrana jako inicjalizacja dla metod nielin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ka rozkładu na wartości osobliwe okazała się leps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została wykorzystana w dalszej części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zutowanie liniowe nie pozwala na optymalną wizualiz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biorów o nieliniowej struktur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rzykład sympleks w 5-ciu wymiarach zobrazowany tą metod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a 3 wierzchołki zgrup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tomiast przy zastosowaniu metody nieliniowe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szystkie sześć wierzchołków jest odseparow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98FBC-7995-4219-BD6B-873709D7A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78D83-A915-4F08-925A-BFE36D083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95B0-53EE-4E0A-B736-CA5E9EBA7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4490-402F-45AA-9E67-C4B3DE87D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CFEB1-9ABE-41E3-BEC4-45287243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D8AF1-7E4D-4283-92B2-F7BFC520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2CF18-E9DF-4270-9D4A-BB8E77DB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810A7-12E9-4AE3-8FA6-8FF34D3C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AF415-0011-46A7-8EAA-DA18E5EF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9C52A-9A4E-4732-A719-5A3C9047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0F29F-6FA5-4136-8EC4-5C9DC2ED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5328-B8EE-40C3-B1A5-D91EBED01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2B62B-4711-4B2C-A5B9-3CB55F2A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24811-3668-47CC-B68C-FEC79310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2325F-4A9E-41AD-B55A-22A28F09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57EE0-E24B-4615-8D7A-C0709411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DD1F0-AB51-4901-8E2E-CE410259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7F27-6AD0-4B7D-93E1-8C7528174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90DC-CE5E-4D75-8EC2-852CA74EE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D0AF-E85A-487C-8FA5-5D2516FCD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24D6-2A62-4BF8-8121-85BCAED88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1E567-52E6-4BF6-9224-E35E69721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40C3-96E9-4718-A77C-0CED27CBB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8D5B-977F-4A0E-94E5-9BCC102C3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4880" y="1219320"/>
            <a:ext cx="1933560" cy="2324160"/>
            <a:chOff x="164880" y="1219320"/>
            <a:chExt cx="1933560" cy="2324160"/>
          </a:xfrm>
        </p:grpSpPr>
        <p:sp>
          <p:nvSpPr>
            <p:cNvPr id="3" name=""/>
            <p:cNvSpPr/>
            <p:nvPr/>
          </p:nvSpPr>
          <p:spPr>
            <a:xfrm flipH="1">
              <a:off x="164880" y="1316880"/>
              <a:ext cx="19335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5480" y="122256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71080" y="1219320"/>
              <a:ext cx="2088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1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500120" indent="-228600">
              <a:spcBef>
                <a:spcPts val="1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919160" indent="-228600">
              <a:spcBef>
                <a:spcPts val="1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990360" y="64004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915400" y="6400440"/>
            <a:ext cx="6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43AC-5319-46A7-9E88-EFCE01C64459}" type="slidenum">
              <a:rPr b="1" lang="en-US" sz="16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0120" y="887400"/>
            <a:ext cx="0" cy="28465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680" y="3050640"/>
            <a:ext cx="552312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60240" y="1219320"/>
            <a:ext cx="655488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752760" y="1056600"/>
            <a:ext cx="247320" cy="2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809880"/>
            <a:ext cx="6548040" cy="2876400"/>
            <a:chOff x="2971800" y="3809880"/>
            <a:chExt cx="6548040" cy="2876400"/>
          </a:xfrm>
        </p:grpSpPr>
        <p:sp>
          <p:nvSpPr>
            <p:cNvPr id="53" name=""/>
            <p:cNvSpPr/>
            <p:nvPr/>
          </p:nvSpPr>
          <p:spPr>
            <a:xfrm>
              <a:off x="2971800" y="6175080"/>
              <a:ext cx="654804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20400" y="3809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9200880" y="6013440"/>
              <a:ext cx="2473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FCAD-6267-4852-8207-976EA450E10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413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248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7152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9056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ytmy neuronowe i statystyczne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 wizualizacji danych wielowymiarowyc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7560" y="373392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Antoine Na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motor: prof. W. Du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tedra Metod Komputerowy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wersytet Mikołaja Kopernika w Toruni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" name="UMK" descr=""/>
          <p:cNvPicPr/>
          <p:nvPr/>
        </p:nvPicPr>
        <p:blipFill>
          <a:blip r:embed="rId1"/>
          <a:stretch/>
        </p:blipFill>
        <p:spPr>
          <a:xfrm>
            <a:off x="1155600" y="3733920"/>
            <a:ext cx="14032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1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ć dwuwarstwowa, uczenie konkurencyjne (zwycięzca bierze większość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7800" y="1752480"/>
          <a:ext cx="40449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52480"/>
                    <a:ext cx="4044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02320" y="1752480"/>
          <a:ext cx="373860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1752480"/>
                    <a:ext cx="3738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kohopol" descr=""/>
          <p:cNvPicPr/>
          <p:nvPr/>
        </p:nvPicPr>
        <p:blipFill>
          <a:blip r:embed="rId5"/>
          <a:stretch/>
        </p:blipFill>
        <p:spPr>
          <a:xfrm>
            <a:off x="825480" y="2227320"/>
            <a:ext cx="7677000" cy="46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6FC7-8A92-47DC-988F-E02A32BCE5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2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lety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konuje jednocześnie redukcji wymiarowości oraz klasteryzacji danych wielowymiarowych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żliwość zastosowania do dużych baz danych lub danych w czasie ich napły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graniczenia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niekształcenie związane z niedopasowaniem kształtu mapy do ogólnego kształtu danych, efekt „brzegowy”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yskretyzacja przestrzeni wyjściowej (siatka neuron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kt lokalnego powiększ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asteryzacja i klasyfikacja nie optymaln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nieczność wyboru wielu parametrów uczenia sie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E303-3FF0-4133-A9FB-05DF444A8AE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1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Ścisła definicja skalowania wielowymiaroweg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la zbior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obiektów, mamy pomiary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odmienności (ang. dissimilarity) dla wszystkich par obiektów (i,j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zukamy niskowymiarowej przestrzeni M, w której jeden pun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reprezentuje jeden obie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w taki sposób, by odległości {d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między punktami {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były jak najlepiej dopasowane do odmienności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alowanie metodą najmniejszych kwadratów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funkcji błędu (badness-of-fit), tzw. stresu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etody optymalizacji: lokalne (coordinate or gradient descent), globalne (majorizing function, wygładzanie stresu) lub inferencyjn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4648320"/>
          <a:ext cx="5553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5553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9891D-0FC6-40DF-B978-AFE50451A89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2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lepszenia wniesione do algorytmu MD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ybór początkowej konfiguracj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CA + MultiStar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yspieszenie oraz ulepszenie procesu zbiegania się minimalizacji stre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optymalizacja skoku wzdłuż gradientu w metodz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ajwiększego spadku uwzględniając drugie pochod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Generalizac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dorzutowania nowych danych przez M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o istniejącego rzuto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D3378-5735-455C-810D-2F3A74B5A22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3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tymalny skok dla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0800" y="1941480"/>
          <a:ext cx="40417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1941480"/>
                    <a:ext cx="404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7880" y="2895480"/>
          <a:ext cx="94982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2895480"/>
                    <a:ext cx="94982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98440" y="3706920"/>
          <a:ext cx="68533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8440" y="3706920"/>
                    <a:ext cx="6853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00440" y="4648320"/>
          <a:ext cx="3801960" cy="13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4648320"/>
                    <a:ext cx="3801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22760" y="2514600"/>
            <a:ext cx="74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proksymacja funkcji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S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·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formą kwadratową (szereg Taylora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2E20-B824-48C1-8E88-F41AFE1B1A2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4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ównanie procesu minimalizacji z innymi metodami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3" name="conv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9327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883C-8FEB-4923-B6ED-95860C10890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5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Zalety metody największego spadku z optymalnym skokiem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względnianie krzywizny funkcji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S()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 punkcie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i="1" lang="pl-PL" sz="1800" spc="-1" strike="noStrike" baseline="30000">
                <a:solidFill>
                  <a:srgbClr val="40458c"/>
                </a:solidFill>
                <a:latin typeface="Tahoma"/>
              </a:rPr>
              <a:t>(k)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przy jednocześnie mniejszej kosztowności niż prawdziwa metoda drugiego rzędu          (n.p. metoda Newton’a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jest w sumie szybsza niż metoda gradientów sprzężonych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proces minimalizacji przebiega w sposób bardziej kontrolowany niż metodą rzutowania Sammon’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ady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liniowa zbieżność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Dołączenie generalizacji do MDSu: „względny” M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b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punktów wcześniej rzutowanych     (b – baz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lnSpc>
                <a:spcPct val="7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n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nowych punktów do dorzutowania  (n – nowe dan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5486400"/>
          <a:ext cx="91803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86400"/>
                    <a:ext cx="9180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ED3A-F100-4707-AC3A-A51C877BD31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6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Zalet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ultiStart z minimalizacją gradientową jest zadowalającym rozwiązaniem dla małych zbiorów (do 100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zględna szybkość rzutow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kontroli obszarów danych, które należy lepiej odwzorowywać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wizualizacji dużych zbiorów danych w celu ich eksploracji (n.p. bazy tekstów) lub danych napływających w czasie (n.p. monitoring procesów przemysłowych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ad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łożoność obliczeniowa rzęd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i="1" lang="pl-PL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 liczba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liczne lokalne minima (czułość na warunki początkow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3A857-6FBA-47CD-B397-4AFADEF17B1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1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4280" y="1519200"/>
            <a:ext cx="88200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641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Program </a:t>
            </a:r>
            <a:r>
              <a:rPr b="1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iMDS</a:t>
            </a: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 zaimplementowany w śr Windows został zastosowany do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i danych psychometrycznych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(test MMPI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550 pytań </a:t>
            </a:r>
            <a:r>
              <a:rPr b="0" lang="pl-PL" sz="16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13 skal (20-120), 20 klas nozologicznych (kobiety/mężczyźni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wizualizacja przez PCA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izualizacja przez M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65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21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(PCA init., 142 iteracji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2" name="allwoPCA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4292640" cy="3170160"/>
          </a:xfrm>
          <a:prstGeom prst="rect">
            <a:avLst/>
          </a:prstGeom>
          <a:ln w="0">
            <a:noFill/>
          </a:ln>
        </p:spPr>
      </p:pic>
      <p:pic>
        <p:nvPicPr>
          <p:cNvPr id="163" name="allwoNLM" descr=""/>
          <p:cNvPicPr/>
          <p:nvPr/>
        </p:nvPicPr>
        <p:blipFill>
          <a:blip r:embed="rId2"/>
          <a:stretch/>
        </p:blipFill>
        <p:spPr>
          <a:xfrm>
            <a:off x="5118120" y="2590920"/>
            <a:ext cx="429264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9A52-E675-4D3B-9647-0FEE3FA27C1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2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oomowanie w przestrzeni wybranej interakcyjni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.p. zoomowanie w sąsiedztwie punktu nr 426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6" name="p426" descr=""/>
          <p:cNvPicPr/>
          <p:nvPr/>
        </p:nvPicPr>
        <p:blipFill>
          <a:blip r:embed="rId1"/>
          <a:stretch/>
        </p:blipFill>
        <p:spPr>
          <a:xfrm>
            <a:off x="1238400" y="2077920"/>
            <a:ext cx="7016760" cy="478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C5F2-A0F7-44F3-8418-F358564BC6B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ele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dstawienie przeglądu istniejących metod wizualizacyjnych dla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ównanie dwóch wybranych metod: skalowania wielowymiarowego (MDS) i samoorganizujących się map Kohonena (SOM) z punktu widzenia zachowania topografii dan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kcyjna eksploracja danych medycznych oraz wizualizacja granic decyzji klasyfikatorów jako narzędzie wspomagające diagnoz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ED00-6C6C-48E1-BFCF-9BAD7B79F75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3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30760" indent="-23076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a granic decyzji klasyfikato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generowanie nowych punktów </a:t>
            </a:r>
            <a:r>
              <a:rPr b="0" i="1" lang="pl-PL" sz="1600" spc="-1" strike="noStrike">
                <a:solidFill>
                  <a:srgbClr val="40458c"/>
                </a:solidFill>
                <a:latin typeface="Tahoma"/>
              </a:rPr>
              <a:t>przypadkowych w sąsiedztwie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granicy decyzj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n.p. bazy danych psychometrycznych, przypadki nr 554 i 42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wizualizacja granic decyzji dla sieci neuronowej “IncNet”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organic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826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428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062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neurosis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309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9" name="p554gauss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3624480" cy="3581280"/>
          </a:xfrm>
          <a:prstGeom prst="rect">
            <a:avLst/>
          </a:prstGeom>
          <a:ln w="0">
            <a:noFill/>
          </a:ln>
        </p:spPr>
      </p:pic>
      <p:pic>
        <p:nvPicPr>
          <p:cNvPr id="170" name="p426gauss" descr=""/>
          <p:cNvPicPr/>
          <p:nvPr/>
        </p:nvPicPr>
        <p:blipFill>
          <a:blip r:embed="rId2"/>
          <a:stretch/>
        </p:blipFill>
        <p:spPr>
          <a:xfrm>
            <a:off x="5365800" y="2590920"/>
            <a:ext cx="35780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CAE8-FA0E-4363-A4A4-5725FE74711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6. Konkluzje i perspektyw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aktyczne porównanie algorytmów SOM i MDS pozwala wnioskować,    iż MDS jest lepszym narzędziem do odwzorowywania struktur danych więc lepiej się nadaje do ich interakcyjnej eksploracj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kalowanie wielowymiarowe zostało ulepszone i dostosowane do interakcyjnej eksploracji wielowymiarowych da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omyślnie zastosowano metodę MDS do wizualizacji wielowymiarowych danych medycznych oraz do wizualizacji granic decyzji klasyfikatora.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stresu metodą gradientową z MultiStart’em jest uzasadniona w przypadku małych zbiorów danych. Dla większych zbiorów, należy poszukiwać tańszych metod global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ogram iMDS przedstawiający 2-wymiarową konfigurację jest przygotowaniem do wizualizacji w 3 wymiara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Interaktywna wizualizacja uwzględniająca informację klasową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izualizacja lokalnych poziomów zniekształceń relacji sąsiedztw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749A-D3AD-432D-A00C-74C29E479DEB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zy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cja polepszonego algorytmu MDS pozwala na włączenie go w narzędzie interakcyjnej eksploracji danych oraz wizualizacji granic decyzji wybranego klasyfikat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ekstrakcji cech mogą z sukcesem być zastosowane do wizualizacji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kalowanie wielowymiarowe jest lepiej przystosowane do odwzorowywania topografii danych niż mapy samoorganizujące si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5D21-D873-4C6B-98A4-558AD7CB26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lan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le wizualizacji danych wielowymiar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gląd metod pozwalających na wizualizacj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oorganizujące się mapy Kohonena (S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skalowania wielowymiarowego (MD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stosowania zoptymalizowanej metody M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nkluzje i perspektyw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BD2E5-543E-4169-95DC-76484D30824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. Cele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oznanie danych poprzez określenie ich globalnej struktury, wykrywanie obecności klasterów i danych odstający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ie dane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ane numeryczne (wystarczy możliwość określenia podobieństw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dane medyczne: różnorodne skale, nieliniowa struktura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a wizualizacja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zedstawiająca wykres punktow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ważna informacja: relacje sąsiedztw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Ekstrakcja cech umożliwia zastosowanie niektórych kosztownych metod klasyfikacyjnych dla danych opisanych w dużej liczbie wymiarów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3270-DF50-4982-A5F6-BBB4C33EB5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1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47560"/>
            <a:ext cx="8502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7920" y="1295280"/>
          <a:ext cx="8502480" cy="328320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718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incipal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danyc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ojection pursui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i odległ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rand tour method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ynamiczny obraz (przekroj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66A9-83D9-4722-AE31-7C2B4D39B8C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2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7920" y="1371600"/>
          <a:ext cx="8502480" cy="487368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510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nie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ultidimensional scaling (MD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lub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ane odmienn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uroScal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oraz dodatkowa wiedz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urvilinear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które odległości („rozwijanie”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Autoassociative feedforward neural networ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liniowe korelacj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elf-organizing maps (SOM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Relacje sąsiedztw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enerative Topographic Mapp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(statystyczni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7028-7C08-4BD4-88BE-AF9F7ADA53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3. Analiza Składników Główn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oszukiwanie takiej liniowej transformacji danych, aby po transformacji dane miały największą wariancj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izualizacja polega na wykreśleniu dwóch pierwszych kierunków głównych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wie klasy met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spektralny (SpD) macierzy korelacji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 =  C . D . C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na wartości osobliwe (SVD) macierzy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=  N . D . M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ewaga numeryczna ostatniej metody (SV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1A0F1-D1C9-4C62-9B09-0EF5A9E32A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4. Ograniczenia rzutowania linioweg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ie nadaje się do wizualizacji zbiorów o nieliniowej strukturze (przykład poniżej: 5-wymiarowy sympleks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czułość na obecność danych odstających. („outliers”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liniowe (PCA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nieliniowe (MD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3 grupy (2,3 i 5) mieszane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6 grup odseparowa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" name="simpPCAMDS" descr=""/>
          <p:cNvPicPr/>
          <p:nvPr/>
        </p:nvPicPr>
        <p:blipFill>
          <a:blip r:embed="rId1"/>
          <a:stretch/>
        </p:blipFill>
        <p:spPr>
          <a:xfrm>
            <a:off x="577800" y="2438280"/>
            <a:ext cx="887400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F1F62-BFB8-4B64-A48B-4369960CE8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08:44:46Z</dcterms:created>
  <dc:creator>Elzbieta i Antoine Naud</dc:creator>
  <dc:description/>
  <dc:language>en-US</dc:language>
  <cp:lastModifiedBy>Antoine Naud</cp:lastModifiedBy>
  <cp:lastPrinted>2001-09-13T10:28:59Z</cp:lastPrinted>
  <dcterms:modified xsi:type="dcterms:W3CDTF">2001-09-13T10:41:40Z</dcterms:modified>
  <cp:revision>260</cp:revision>
  <dc:subject/>
  <dc:title>Neural and statistical methods for the visualization of multidimensional data</dc:title>
</cp:coreProperties>
</file>